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07C-48AA-4931-9EB2-96129B30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7A1-D88C-45A6-9687-0C5E5051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74BBF-6CAF-4168-94DD-86E52704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84B9F-8BD7-49D2-89C7-B79246D4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E30B8-0729-4090-97BC-C0E40C94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F3B93-B03E-40D9-ABDB-FE11EAD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8367B-7A55-4DA5-802E-31A6EB80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C4BF7-B291-4BB0-9837-FCEB8C6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2DE4D-0A06-4F3B-8CF4-82EC6D0B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C6744-9F27-44C7-BB3F-E2A6DE28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3A301-9D5D-4254-8440-7CD75A8A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9CBD7-37B2-491D-BA27-D28BD1A2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5F6-C7F1-4206-8C60-7F0C89DA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8C589-400A-4E30-81BB-80598BE7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05A0E-6DD8-4D48-BCB5-E8F87965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08E17-294A-4BB3-978C-CE9D7179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F638B-F1A1-43FF-9B71-9DC78AAD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3422E-40B2-421B-8C71-AD15EE5B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C4577-4917-4DFC-8956-7AA3E76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E9C97-4AE7-41E0-A350-CE72B4B9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AE6A9-5148-444E-A78F-5E2CE96C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541CA-2B21-46A5-93DD-CA0926EA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2B7D9-C0B4-453C-9AB0-2DDA878D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FFC-546A-4851-9400-DB9EFD94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7EA16-7614-4B05-9F3C-42837887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D99CB-CEC3-489E-9722-74DF65CA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85B50-848B-4705-ADF0-8E9DC469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6DE18-C25B-463F-9EED-23188D7F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AA34B-2BDA-4C9E-BE21-4BF4CCC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3E9EF-F984-454B-A05C-5702DA3C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D8AC4-3D91-4659-B861-3EC0E25D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DCE87-5D9D-40AC-9DA7-BF357675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9872C-E526-4FA3-8A63-B54DCB5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1E957-09D2-4AC8-B67E-15EE759E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D14F-065F-4FD0-913D-4BD7C706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79BA8-81E1-4B14-8550-23DE204F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C39DE-9E6C-4395-A24A-802B3434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CDA99-7FF9-4958-A660-94994EFF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C21BE-AFE7-4BC2-A1CE-263AF391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942B5-0A2A-4067-AEAF-2FED0EC3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D5C04-7E2C-413B-B165-5DEBED8B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F001A-B96B-4893-8742-E8BAD7E0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641DD-0FA7-4DAD-A9B1-B4CCB6F4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1FE9A-C8F1-45D8-985E-034382A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B5A25-C16D-401B-B88F-657515B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821D-6D5D-4338-80BF-68205403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A445E-85C7-4F3F-953A-76A58C25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910F7-DA86-4F6F-BC83-E301CF2A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CB7B9-6704-468D-BAEA-67F53069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9007E-56B1-4425-BABF-7F5B20A1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734F3-BE7F-411F-89DA-44CE6AEF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84C35-89BF-4C3E-99DB-33F4674C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4A635-1B81-4F3C-8B7C-0308AE6B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E79D7-F062-4217-90EE-53CAA936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AD095-4A5E-4218-A829-5DDAE3B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478B6-0001-406F-8018-B36B1E97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56CD-1810-4654-A610-BBD43C83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365CB-FF6D-4628-8994-390A2FE5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2DCBD-FA3E-445A-B970-2AC05352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6B6B1-6444-45DA-A55D-8B6EEFE0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10C9A-3C5B-4384-8F65-A85CEE83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D19E8-D5BF-4FF7-886D-9258BC8A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93A23-8657-477E-8473-755388DC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44226-FC35-4F7A-8F1D-5678F5FC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6F1D3-A247-4DCB-A073-27C4960C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F80CF-20EE-4440-8C4A-7ED0F7F3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B291A-7CDF-4D2C-A766-6446F25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F2D9-F50D-4B73-A6FD-8F2D0314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91CFA-40BF-45FB-B4B6-14A30676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D9107-20E0-444D-ABEC-081D89A3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AE4AF-82F0-4429-9D3D-E3627AF8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30EA1-643A-409F-9EC5-FE6ED3FB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29F25-E606-41A9-A3FD-43AA26A4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A6D33-078B-4819-944E-732C466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F6550-D502-44A3-BD6E-17386310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0FD86-2ACF-475C-B257-9412AC53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08747-150E-4292-87EA-139BBF18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1001-FC49-4893-B204-A6174110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DFE8-B184-4322-A578-0EFCC9A6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AB9B-511D-4A3E-BD8F-874EF5EC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F32-864B-4B80-A518-5235FC2B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3079-DD5D-499C-B5FC-7BD4144B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C47A-4BAA-448A-8D41-D8441DA4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2642-C3A6-4F7E-B1E9-CC0E66ED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9EDB-D0C7-430D-806A-FAF33079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E870-B092-4C0A-A2E4-590A9B1C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E4BD-04A2-4EE6-B3AF-F0A3469A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F2E4-873A-4F2F-A2DC-FD0654D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AAC4-7FC8-4959-BAAE-BB81F58F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31A6-3342-45DF-975F-055B5B0D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A458-0375-4CCC-B031-017ACB0D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605-DF01-47AC-A094-7D49F9D8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C15F-010B-4DC2-8B63-CB68B115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E5C5-027B-4825-BF4C-28F15078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35ED-B664-4B0F-9CFB-5DB4FE80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FD04-F1F8-4C2E-A76A-99D5E9BF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E086-982A-4659-96F9-11E83D28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1E44-15F7-4954-ACD0-EEF01185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B471-8CD4-4562-9B7E-CE50E941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34C4-72D6-41B9-B7B7-189B3B64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70C8A-013B-4670-89BC-2A988B78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32F6-5761-465F-B676-CD68D197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628-5916-41AB-B55F-4D04A752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30F7-AF50-449E-81AC-AA62FC2F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44565-251B-4C98-B9E3-D0D1B7F9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605D-275C-4A2D-BED0-3856D18F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79F8-3682-4A66-A494-207AA4B2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C1564-B1F5-48A2-A6D1-18928DB2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B8820-FB5A-4FA9-907A-AD3CCCC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99DE-9D97-4A2C-9C00-0E6317D7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66670-79F9-40FC-A233-C3B123F8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C967-6F1C-4227-924D-23590FF1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F3B8-61BC-4ED6-A583-C1043EEA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D45-EC9D-4B17-B095-34475044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5D6D5-E4D7-4553-9244-BD2A76E5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450E-B406-446F-9061-05B65BA8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29D57-A282-4518-A146-56F2A35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F1B70-70F5-4D9F-BC08-A37A26BB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AD332-266D-4E71-B982-B8E38A7C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05E85-54D1-434F-B0C8-136BBDF8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4D22F-B4F4-487A-B068-E8783D10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BC45-5C5F-41B8-8266-03A14B53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87B7-9AA1-4608-9758-24D55138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96086-2897-445B-B38D-178B7741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51D-7461-40CC-95AD-84AABADA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BF5C-D591-43F7-B839-D1EF29A8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35795-A09F-4734-AFAC-A900F818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8BE5-6558-4C5A-AB33-48045A87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F85BB-8BB3-4E0A-AA1D-F1E32C5A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8A2B8-1141-4967-A57B-08306A5B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CC66-1F9B-494F-9985-FC8EC3C5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BAE64-6949-4D8C-A2C7-31CDD64D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FF02F-DA83-45D6-876B-00E056E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7BE7E-56D4-4D19-B987-8105F977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95AC0-8F43-4B12-B32E-755EB5F2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2A2-E130-4312-AB99-3310C27E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2041-5C4C-446F-8D2C-505B4EC4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16775-3640-4B3D-B0E2-EE2E9389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4FCF9-35D4-4B5F-BBB1-814D93D9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8503-98DE-4A6A-B01B-7DA5B1C2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4F504-D405-41AA-BEFB-9E3806FB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54E0D-BB9A-4955-A8ED-AFDDCEFB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0D75-E9B6-44C6-BE72-82DBAE3D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337A-F01B-4D82-BC87-15C3491F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3EB4-B83F-4EB3-AD9F-5B18F3AD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2406-8293-4662-B46E-A2A49F76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76A-EC3D-4ECD-9AE4-2B3856A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B2AF0-1875-444A-922B-FD3969CD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5DA0-F321-4447-A5B7-ACD378E6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1F28-202C-4513-AF59-531AE8B0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8EAF4-3568-4E0D-8D05-09913A13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42A61-9082-4E72-B0D5-7A0CD24D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4869B-A7E8-46BA-B7E0-5249813F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5096A-BC96-493E-85AE-12651D52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2640-F9FF-44B1-91B5-D6A7F4A4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22E91-0B2C-48C5-8A44-519AFB8F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D07E6-72B1-412F-B963-761EF82B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D03-CF3B-420B-9B34-E022C62E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35DBC-1988-4615-87C4-D4B8B8B4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5946-F1A3-4E47-93BF-265965F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05562-390D-4E90-B68B-B32A338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A46EF-86E4-4974-B80C-EDE0EDF1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0DE01-6868-4F73-B518-AD271095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9B2FE-5D0E-4700-A578-4AF0A380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FB55C-9B5F-4950-A797-7BC46C27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0114C-C1D2-4097-9F9A-EF186B6B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2EF24-7C9E-46E4-9FC8-7796A46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527F2-7C15-45FA-984A-486405F5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743F-9A5D-40A9-BA1B-C0A2191B1B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224E-87E7-4AD3-92BB-CB61343960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96F-63AE-411E-A048-7BCDA3B48E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27CF-1FF0-43ED-8F10-B05659C81E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503F-F8A4-40CE-A147-31EC0ABE81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1BDB-D724-424C-9ADC-DA418D5C24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538B-63E1-46AF-8C18-C6A812E5AA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8CDE-5BD2-4C5E-BEC8-79DD7DAEF2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E9A8-E7BE-4C92-AD13-B8F8D66C11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A044-C49D-47F1-9B4B-44642F4C49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FA8D-088C-47E1-86D4-E6EE496FBD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5BC3-C748-4F03-A459-287806A967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48EB-23D7-4A34-9107-4C1AAA5A0E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5708-4E06-4B1A-9DD5-7AEB3231DC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0589-F656-45A9-8571-FEF3F1EEE2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82DB-4732-4D10-9898-0F281D76BF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4000" y="2709720"/>
            <a:ext cx="845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初定专业技术资格网报流程与要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482840" y="479736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、工作业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内容占位符 4" descr=""/>
          <p:cNvPicPr/>
          <p:nvPr/>
        </p:nvPicPr>
        <p:blipFill>
          <a:blip r:embed="rId1"/>
          <a:stretch/>
        </p:blipFill>
        <p:spPr>
          <a:xfrm>
            <a:off x="554040" y="1539720"/>
            <a:ext cx="8132760" cy="160992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5"/>
          <p:cNvSpPr/>
          <p:nvPr/>
        </p:nvSpPr>
        <p:spPr>
          <a:xfrm>
            <a:off x="660240" y="3355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业绩填写本人参加教学研究工作材料（论文、课题等），填写基本信息并完成佐证材料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、工作总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内容占位符 4" descr=""/>
          <p:cNvPicPr/>
          <p:nvPr/>
        </p:nvPicPr>
        <p:blipFill>
          <a:blip r:embed="rId1"/>
          <a:stretch/>
        </p:blipFill>
        <p:spPr>
          <a:xfrm>
            <a:off x="628560" y="1214280"/>
            <a:ext cx="8218440" cy="3044880"/>
          </a:xfrm>
          <a:prstGeom prst="rect">
            <a:avLst/>
          </a:prstGeom>
          <a:ln w="0">
            <a:noFill/>
          </a:ln>
        </p:spPr>
      </p:pic>
      <p:sp>
        <p:nvSpPr>
          <p:cNvPr id="628" name="文本框 5"/>
          <p:cNvSpPr/>
          <p:nvPr/>
        </p:nvSpPr>
        <p:spPr>
          <a:xfrm>
            <a:off x="596880" y="432108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总结处填写个人工作总结，注意字数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一、年度考核信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内容占位符 4" descr=""/>
          <p:cNvPicPr/>
          <p:nvPr/>
        </p:nvPicPr>
        <p:blipFill>
          <a:blip r:embed="rId1"/>
          <a:stretch/>
        </p:blipFill>
        <p:spPr>
          <a:xfrm>
            <a:off x="125280" y="1825560"/>
            <a:ext cx="8894880" cy="149076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6"/>
          <p:cNvSpPr/>
          <p:nvPr/>
        </p:nvSpPr>
        <p:spPr>
          <a:xfrm>
            <a:off x="490680" y="3611520"/>
            <a:ext cx="816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度考核信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编内录用新教师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新教师见习期满转正定级考核表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关信息，并上传考核表原件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及之前录用聘用制（员额制）教师上传新教师试用期考核表或年度考核表（有一年填一年），复印件需单位盖章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教师上传单位年度考核表，复印件需单位盖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二、社保缴费证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818208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下载江苏智慧人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“服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选择“社会保险”—“个人权益单”—“江苏社会保险权益记录单（参保人员）”—起始年月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2105-202205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存为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上传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三、单位公示及结果报告证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内容占位符 4" descr=""/>
          <p:cNvPicPr/>
          <p:nvPr/>
        </p:nvPicPr>
        <p:blipFill>
          <a:blip r:embed="rId1"/>
          <a:stretch/>
        </p:blipFill>
        <p:spPr>
          <a:xfrm>
            <a:off x="368280" y="1413000"/>
            <a:ext cx="8406000" cy="1825560"/>
          </a:xfrm>
          <a:prstGeom prst="rect">
            <a:avLst/>
          </a:prstGeom>
          <a:ln w="0">
            <a:noFill/>
          </a:ln>
        </p:spPr>
      </p:pic>
      <p:sp>
        <p:nvSpPr>
          <p:cNvPr id="637" name="文本框 5"/>
          <p:cNvSpPr/>
          <p:nvPr/>
        </p:nvSpPr>
        <p:spPr>
          <a:xfrm>
            <a:off x="577800" y="350208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将以上两项模板下载，单位填写意见盖章后，完成材料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四、其他材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8464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材料无需填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上所有信息填写完成，核实无误后，点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申报表预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再次核实无误后，点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进入教育行政部门审核环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图片 4" descr=""/>
          <p:cNvPicPr/>
          <p:nvPr/>
        </p:nvPicPr>
        <p:blipFill>
          <a:blip r:embed="rId1"/>
          <a:stretch/>
        </p:blipFill>
        <p:spPr>
          <a:xfrm>
            <a:off x="1409760" y="3692520"/>
            <a:ext cx="6324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五、相关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7"/>
          <p:cNvSpPr/>
          <p:nvPr/>
        </p:nvSpPr>
        <p:spPr>
          <a:xfrm>
            <a:off x="563400" y="1349280"/>
            <a:ext cx="843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中旬开始申报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截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网上申报信息审核完毕后，请局属各单位职称负责同志注意，初定及申报人员都必须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内完成申报表的打印、盖章、上交工作。申报表一式两份，双面打印、盖章，单位统一交区教育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室审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系统登录与注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82695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统网址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s://rs.jshrss.jiangsu.gov.cn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浏览器极速模式或谷歌浏览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4" descr=""/>
          <p:cNvPicPr/>
          <p:nvPr/>
        </p:nvPicPr>
        <p:blipFill>
          <a:blip r:embed="rId1"/>
          <a:stretch/>
        </p:blipFill>
        <p:spPr>
          <a:xfrm>
            <a:off x="1106640" y="2281320"/>
            <a:ext cx="3027240" cy="360828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7" descr=""/>
          <p:cNvPicPr/>
          <p:nvPr/>
        </p:nvPicPr>
        <p:blipFill>
          <a:blip r:embed="rId2"/>
          <a:stretch/>
        </p:blipFill>
        <p:spPr>
          <a:xfrm>
            <a:off x="5253120" y="2297160"/>
            <a:ext cx="324648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申报入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5920" y="1722240"/>
            <a:ext cx="3425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册成功后，即可登录，然后在主页面点“个人办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才人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专业技术人员管理服务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职称初定申报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申报”，进入申报界面，然后按个人实际情况进行网上申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图片 10" descr=""/>
          <p:cNvPicPr/>
          <p:nvPr/>
        </p:nvPicPr>
        <p:blipFill>
          <a:blip r:embed="rId1"/>
          <a:stretch/>
        </p:blipFill>
        <p:spPr>
          <a:xfrm>
            <a:off x="3817800" y="1695600"/>
            <a:ext cx="52261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基本信息填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片 4" descr="1"/>
          <p:cNvPicPr/>
          <p:nvPr/>
        </p:nvPicPr>
        <p:blipFill>
          <a:blip r:embed="rId1"/>
          <a:srcRect l="0" t="76191" r="347" b="0"/>
          <a:stretch/>
        </p:blipFill>
        <p:spPr>
          <a:xfrm>
            <a:off x="-196920" y="5570640"/>
            <a:ext cx="9507600" cy="121752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" descr=""/>
          <p:cNvPicPr/>
          <p:nvPr/>
        </p:nvPicPr>
        <p:blipFill>
          <a:blip r:embed="rId2"/>
          <a:srcRect l="3759" t="245" r="1216" b="913"/>
          <a:stretch/>
        </p:blipFill>
        <p:spPr>
          <a:xfrm>
            <a:off x="-155520" y="1222200"/>
            <a:ext cx="9477360" cy="4413600"/>
          </a:xfrm>
          <a:prstGeom prst="rect">
            <a:avLst/>
          </a:prstGeom>
          <a:ln w="0">
            <a:noFill/>
          </a:ln>
        </p:spPr>
      </p:pic>
      <p:sp>
        <p:nvSpPr>
          <p:cNvPr id="587" name="椭圆 2"/>
          <p:cNvSpPr/>
          <p:nvPr/>
        </p:nvSpPr>
        <p:spPr>
          <a:xfrm>
            <a:off x="0" y="435924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3"/>
          <p:cNvSpPr/>
          <p:nvPr/>
        </p:nvSpPr>
        <p:spPr>
          <a:xfrm>
            <a:off x="0" y="493092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4"/>
          <p:cNvSpPr/>
          <p:nvPr/>
        </p:nvSpPr>
        <p:spPr>
          <a:xfrm>
            <a:off x="563400" y="2405160"/>
            <a:ext cx="8134560" cy="919080"/>
          </a:xfrm>
          <a:prstGeom prst="rect">
            <a:avLst/>
          </a:prstGeom>
          <a:solidFill>
            <a:srgbClr val="a6a6a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4"/>
          <p:cNvSpPr/>
          <p:nvPr/>
        </p:nvSpPr>
        <p:spPr>
          <a:xfrm>
            <a:off x="6434280" y="493092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5"/>
          <p:cNvSpPr/>
          <p:nvPr/>
        </p:nvSpPr>
        <p:spPr>
          <a:xfrm>
            <a:off x="709560" y="2451240"/>
            <a:ext cx="78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工作单位性质民办幼儿园改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民办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行政主管部门改成常州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天宁区教育局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报送受理部门改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天宁区职称办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。填写完整无误后（幼儿园教师现从事专业，申报专业选择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幼儿园教师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），点击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暂存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点击左侧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学历学位信息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进入下一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5"/>
          <p:cNvSpPr/>
          <p:nvPr/>
        </p:nvSpPr>
        <p:spPr>
          <a:xfrm>
            <a:off x="2587680" y="6423120"/>
            <a:ext cx="153972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6"/>
          <p:cNvSpPr/>
          <p:nvPr/>
        </p:nvSpPr>
        <p:spPr>
          <a:xfrm>
            <a:off x="2635200" y="64450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选天宁区职称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7"/>
          <p:cNvSpPr/>
          <p:nvPr/>
        </p:nvSpPr>
        <p:spPr>
          <a:xfrm>
            <a:off x="934920" y="6454800"/>
            <a:ext cx="1335240" cy="29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8"/>
          <p:cNvSpPr/>
          <p:nvPr/>
        </p:nvSpPr>
        <p:spPr>
          <a:xfrm>
            <a:off x="934920" y="648000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天宁区职称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0"/>
          <p:cNvSpPr/>
          <p:nvPr/>
        </p:nvSpPr>
        <p:spPr>
          <a:xfrm>
            <a:off x="7977240" y="3416400"/>
            <a:ext cx="133344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1"/>
          <p:cNvSpPr/>
          <p:nvPr/>
        </p:nvSpPr>
        <p:spPr>
          <a:xfrm>
            <a:off x="7977240" y="4359240"/>
            <a:ext cx="13334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2"/>
          <p:cNvSpPr/>
          <p:nvPr/>
        </p:nvSpPr>
        <p:spPr>
          <a:xfrm>
            <a:off x="7243920" y="1384200"/>
            <a:ext cx="733320" cy="8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学历学位信息填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内容占位符 6" descr=""/>
          <p:cNvPicPr/>
          <p:nvPr/>
        </p:nvPicPr>
        <p:blipFill>
          <a:blip r:embed="rId1"/>
          <a:stretch/>
        </p:blipFill>
        <p:spPr>
          <a:xfrm>
            <a:off x="295200" y="1293840"/>
            <a:ext cx="8663040" cy="10666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7" descr=""/>
          <p:cNvPicPr/>
          <p:nvPr/>
        </p:nvPicPr>
        <p:blipFill>
          <a:blip r:embed="rId2"/>
          <a:stretch/>
        </p:blipFill>
        <p:spPr>
          <a:xfrm>
            <a:off x="388800" y="2360520"/>
            <a:ext cx="8570880" cy="230364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8" descr=""/>
          <p:cNvPicPr/>
          <p:nvPr/>
        </p:nvPicPr>
        <p:blipFill>
          <a:blip r:embed="rId3"/>
          <a:stretch/>
        </p:blipFill>
        <p:spPr>
          <a:xfrm>
            <a:off x="44280" y="4869000"/>
            <a:ext cx="8790120" cy="106200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9"/>
          <p:cNvSpPr/>
          <p:nvPr/>
        </p:nvSpPr>
        <p:spPr>
          <a:xfrm>
            <a:off x="515880" y="6037200"/>
            <a:ext cx="83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，完成基本信息填写后保存，上传学历、学位证书（高中以后、扫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，点击暂存，进入下一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技术资格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专业技术资格（职业资格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内容占位符 4" descr=""/>
          <p:cNvPicPr/>
          <p:nvPr/>
        </p:nvPicPr>
        <p:blipFill>
          <a:blip r:embed="rId1"/>
          <a:stretch/>
        </p:blipFill>
        <p:spPr>
          <a:xfrm>
            <a:off x="14400" y="1662120"/>
            <a:ext cx="9115200" cy="3798720"/>
          </a:xfrm>
          <a:prstGeom prst="rect">
            <a:avLst/>
          </a:prstGeom>
          <a:ln w="0">
            <a:noFill/>
          </a:ln>
        </p:spPr>
      </p:pic>
      <p:sp>
        <p:nvSpPr>
          <p:cNvPr id="608" name="文本框 1"/>
          <p:cNvSpPr/>
          <p:nvPr/>
        </p:nvSpPr>
        <p:spPr>
          <a:xfrm>
            <a:off x="1036800" y="5602320"/>
            <a:ext cx="74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填写基本信息后，还需佐证材料上传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式）。下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、奖惩情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内容占位符 4" descr=""/>
          <p:cNvPicPr/>
          <p:nvPr/>
        </p:nvPicPr>
        <p:blipFill>
          <a:blip r:embed="rId1"/>
          <a:stretch/>
        </p:blipFill>
        <p:spPr>
          <a:xfrm>
            <a:off x="12600" y="1477800"/>
            <a:ext cx="8967960" cy="284328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5"/>
          <p:cNvSpPr/>
          <p:nvPr/>
        </p:nvSpPr>
        <p:spPr>
          <a:xfrm>
            <a:off x="577800" y="4303800"/>
            <a:ext cx="82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奖惩情况如实填写，并上传佐证材料，如没有，则无需填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、工作经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内容占位符 4" descr=""/>
          <p:cNvPicPr/>
          <p:nvPr/>
        </p:nvPicPr>
        <p:blipFill>
          <a:blip r:embed="rId1"/>
          <a:stretch/>
        </p:blipFill>
        <p:spPr>
          <a:xfrm>
            <a:off x="96840" y="1941480"/>
            <a:ext cx="8589960" cy="174456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5"/>
          <p:cNvSpPr/>
          <p:nvPr/>
        </p:nvSpPr>
        <p:spPr>
          <a:xfrm>
            <a:off x="779400" y="3927600"/>
            <a:ext cx="73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经历如实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八、继续教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内容占位符 4" descr=""/>
          <p:cNvPicPr/>
          <p:nvPr/>
        </p:nvPicPr>
        <p:blipFill>
          <a:blip r:embed="rId1"/>
          <a:stretch/>
        </p:blipFill>
        <p:spPr>
          <a:xfrm>
            <a:off x="628560" y="1671480"/>
            <a:ext cx="8021880" cy="165132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5"/>
          <p:cNvSpPr/>
          <p:nvPr/>
        </p:nvSpPr>
        <p:spPr>
          <a:xfrm>
            <a:off x="898560" y="35863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继续教育分为公共科目合格证汇总表、新任教师上岗培训证明（师发学院提供，仅需编内参加新教师上岗培训教师提供）、区级培训、校本培训，填写基本信息完成佐证材料上传。公共科目合格证门数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加工作年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01:27Z</dcterms:created>
  <dc:creator/>
  <dc:description/>
  <dc:language>en-US</dc:language>
  <cp:lastModifiedBy>Administrator</cp:lastModifiedBy>
  <dcterms:modified xsi:type="dcterms:W3CDTF">2022-06-10T01:53:37Z</dcterms:modified>
  <cp:revision>115</cp:revision>
  <dc:subject/>
  <dc:title>职称评审系统使用（申报者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9442953A6D743CBBDF4A05E11CB0D71</vt:lpwstr>
  </property>
  <property fmtid="{D5CDD505-2E9C-101B-9397-08002B2CF9AE}" pid="3" name="KSOProductBuildVer">
    <vt:lpwstr>2052-11.1.0.11411</vt:lpwstr>
  </property>
</Properties>
</file>